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358-D1B0-4416-AEC4-8895BC4F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141-066E-4FC8-A5B1-DE0C53B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650-84DA-45B7-A00B-7B6F39E1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173-DFA3-43F3-8E09-2DF6EC99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24640-146B-4DC9-80FF-29EDA2A1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C075F-94EF-48EE-8A9F-124343A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DF789-84AC-46E4-B10E-802674D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03187-4221-49D1-9E34-D005B1B9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FC353-ED9B-4BC3-ADE0-786F9674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64551-2448-46EE-8AB1-5DC857A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A5319-6DEA-40A9-9B1E-1AFBEDB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35F-35B3-4960-AC64-D23780F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C88A8-E796-4FA8-A478-6ABC338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DD930-F8E7-405B-B3B5-E7CF348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C450-E8C6-44F9-B12F-24A332E7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8361A-6904-432B-AA5C-ED607D39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E9742-B401-426F-8CB6-E69BFAC3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EBC-71BB-4FAF-8B3F-2D75263E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79A-2F83-4649-97C2-8F4ACE58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5DB-48E2-45DC-B3F6-CCF0B426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4F2-05BC-4A14-AD87-C6F9997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7E3-8E62-49DC-BFE3-38B49B12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062-4A7D-4083-A522-9010057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315-3064-4687-AD3C-65E50B8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7AD4-4B35-4F24-BA1D-C4BA86BED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73B4-D1C0-4C9C-AE63-D2839FFF3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Elizabeth bear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gara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garaje Es lujos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5562720" cy="3398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bella 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la casa Es anti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5791320" cy="3662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 coci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cina Es lujosa y impresionan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3880" y="2946240"/>
            <a:ext cx="5334120" cy="3911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 com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mmedor Es ma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3005280"/>
            <a:ext cx="4876920" cy="3852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la sala Es bon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1080" y="2833560"/>
            <a:ext cx="5181840" cy="4024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atio Es bon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105160" cy="3876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ba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b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ó Es estupend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uarto Es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3029040"/>
            <a:ext cx="5486400" cy="3828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jar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ì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j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Es estupend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5334120" cy="3552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5:04:23Z</dcterms:created>
  <dc:creator>bearereli</dc:creator>
  <dc:description/>
  <dc:language>en-US</dc:language>
  <cp:lastModifiedBy>bearereli</cp:lastModifiedBy>
  <dcterms:modified xsi:type="dcterms:W3CDTF">2012-10-24T12:24:35Z</dcterms:modified>
  <cp:revision>4</cp:revision>
  <dc:subject/>
  <dc:title>La casa</dc:title>
</cp:coreProperties>
</file>